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%20am%20alive_03,28.00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45C-948D-4B0B-886E-6A77004E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6D3-68EB-4949-9072-1AAF952D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B4B-5C9E-4A5F-B48C-4021DA6D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89C-F5C8-45D4-8E69-6AA55343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A93-3907-4A85-BF97-EF3D76D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326-85B8-48EB-90CE-DF9A6047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5AD-19FA-4626-BE18-85B4F0F7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A97-7C48-48E3-90E3-EE6C1EC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5F2-84D7-419F-B836-1DA31C0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521-F92F-4550-BBE0-BE355D3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92C-AD39-423A-8605-2FF7EE7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C4B-9D84-43A6-A79E-0191FDA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970-4248-44C3-80C2-C429FCF1BF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I%20am%20alive_03,28.00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81952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e Des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La Fuerz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odos los Element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La presentación inicia automáticamente, solo enciende tus bocin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64008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a Ti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Agosto 2005 JSR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560556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No suelo enviar este tipo de mensajes, pero éste me parece especialmente inspirador y bello. Y lo mejor es que no tienes que enviárselo a nadie para que algo se te haga realidad. Sólo disfrútalo y ojalá aprendas algo a la vez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  <p:sndAc>
      <p:stSnd>
        <p:snd r:embed="rId5" name="I%20am%20alive_03,28.0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7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7640" y="56386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Todos podrán ver lo que aparentas,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pero muy pocos sabrán realmente quién e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5796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Quien quiera tener o lograr algo que nunca ha tenido, tendrá que hacer algo… que nunca haya hecho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6640" y="28954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Tal vez Dios ha querido que conozcas a mucha gente diferente a lo largo de tu vida, para que cuando te acerques a los indicados, sepas reconocerlos, valorarlos y agradecer al cielo por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2560" y="55166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Haz tus planes para mañana, pero VIVE para hoy</a:t>
            </a: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3809880"/>
            <a:ext cx="56721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El Amor no requiere que dos personas se miren de frente, sino que ambas vean hacia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(Antoine de Saint Exupe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50292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Vivir la vida es dibujar,sin necesdiad de un borrad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289160"/>
            <a:ext cx="76197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Te deseo siemp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Aire para respir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Fuego para calenta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Agua para beber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La Tierra para vivir en ella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0960" y="47750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Te deseo un gran dí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6400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a ti en Agosto 2005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JS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2000" y="5715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Quien te tome de la mano, pero además toque tu corazón, te brindará amistad verdad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48320" y="45720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Casi nunca pensamos en lo que tenemos. Sólo en aquéllo que nos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1814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No llores porque se ha terminado. Mejor sonríe porque te suced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471960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Palatino Linotype"/>
                <a:ea typeface="Times New Roman"/>
              </a:rPr>
              <a:t>Mientras más precisos pienses que son tus planes, más duro será el golpe que te de el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08720" y="4827600"/>
            <a:ext cx="33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Palatino Linotype"/>
                <a:ea typeface="Times New Roman"/>
              </a:rPr>
              <a:t>Todo lo que sucede, sucede por alguna raz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680" y="1752480"/>
            <a:ext cx="251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No te esfuerces tanto, porque las cosas mejores suceden cuando menos las espe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487692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Tus mejores momentos no serán los más ruidosos, sino tus horas de quie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76920" y="36450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Una lección difícil de aprender será:</a:t>
            </a:r>
            <a:br>
              <a:rPr sz="2800"/>
            </a:b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 Qué puente cruzar y cuál evi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/>
  <dc:language>en-US</dc:language>
  <cp:lastModifiedBy>Jaime Antonio</cp:lastModifiedBy>
  <dcterms:modified xsi:type="dcterms:W3CDTF">2005-08-09T16:04:35Z</dcterms:modified>
  <cp:revision>52</cp:revision>
  <dc:subject/>
  <dc:title>I's not from me!!!</dc:title>
</cp:coreProperties>
</file>