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%20am%20alive_03,28.00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F0A-AB19-4A99-AF04-29601ED6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18A8-10A6-44F5-9BE5-0BAAEEC1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9639-268E-4D19-952C-72C88BE4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112-EDF4-4CB7-8BA4-B8A714BE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191-A239-4032-A14E-8FC00D40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757E-FF06-462B-B2B4-40D611CC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526-5C3E-4AED-9E1D-08C95ABE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76D-CDF9-4658-B366-4B7D3FA7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517-B930-4C10-BF26-ED9E8207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CCA-1FE0-4543-91BC-F3A7B11D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6D2B-C4AD-43CA-ABD8-AD4C41F4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B69-EBB5-4DD5-A1CB-D3A9CED2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E5A3-8193-47C9-B74E-8EE6C6EDC57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I%20am%20alive_03,28.00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572000" y="0"/>
              <a:ext cx="4572000" cy="34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3429000"/>
              <a:ext cx="4572000" cy="34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4572000" y="3429000"/>
              <a:ext cx="4572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457200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0" y="2819520"/>
            <a:ext cx="9144000" cy="2025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Te Des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La Fuerza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Todos los Element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053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La presentación inicia automáticamente, solo enciende tus bocin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64008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a Ti 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Agosto 2005 JSR</a:t>
            </a: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4720" y="560556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No suelo enviar este tipo de mensajes, pero éste me parece especialmente inspirador y bello. Y lo mejor es que no tienes que enviárselo a nadie para que algo se te haga realidad. Sólo disfrútalo y ojalá aprendas algo a la vez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fade thruBlk="true"/>
    <p:sndAc>
      <p:stSnd>
        <p:snd r:embed="rId5" name="I%20am%20alive_03,28.00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7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12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47640" y="56386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Palatino Linotype"/>
                <a:ea typeface="Times New Roman"/>
              </a:rPr>
              <a:t>Todos podrán ver lo que aparentas, </a:t>
            </a: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Palatino Linotype"/>
                <a:ea typeface="Times New Roman"/>
              </a:rPr>
              <a:t>pero muy pocos sabrán realmente quién e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8000" y="5796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Palatino Linotype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ccffff"/>
                </a:solidFill>
                <a:latin typeface="Palatino Linotype"/>
                <a:ea typeface="Times New Roman"/>
              </a:rPr>
              <a:t>Quien quiera tener o lograr algo que nunca ha tenido, tendrá que hacer algo… que nunca haya hecho 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6640" y="289548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Palatino Linotype"/>
                <a:ea typeface="Times New Roman"/>
              </a:rPr>
              <a:t>Tal vez Dios ha querido que conozcas a mucha gente diferente a lo largo de tu vida, para que cuando te acerques a los indicados, sepas reconocerlos, valorarlos y agradecer al cielo por e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2560" y="551664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Palatino Linotype"/>
                <a:ea typeface="Times New Roman"/>
              </a:rPr>
              <a:t>Haz tus planes para mañana, pero VIVE para hoy</a:t>
            </a:r>
            <a:r>
              <a:rPr b="0" lang="en-GB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3809880"/>
            <a:ext cx="567216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El Amor no requiere que dos personas se miren de frente, sino que ambas vean hacia la misma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cc00"/>
                </a:solidFill>
                <a:latin typeface="Palatino Linotype"/>
                <a:ea typeface="Times New Roman"/>
              </a:rPr>
              <a:t> </a:t>
            </a:r>
            <a:r>
              <a:rPr b="0" lang="en-GB" sz="1000" spc="-1" strike="noStrike">
                <a:solidFill>
                  <a:srgbClr val="ffcc00"/>
                </a:solidFill>
                <a:latin typeface="Palatino Linotype"/>
                <a:ea typeface="Times New Roman"/>
              </a:rPr>
              <a:t>(Antoine de Saint Exupe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876920" y="502920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Palatino Linotype"/>
                <a:ea typeface="Times New Roman"/>
              </a:rPr>
              <a:t>Vivir la vida es dibujar,sin necesdiad de un borrado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2120" y="1289160"/>
            <a:ext cx="761976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Te deseo siemp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Aire para respira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Fuego para calenta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Agua para beber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La Tierra para vivir en ella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10960" y="477504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Te deseo un gran dí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64008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a ti en Agosto 2005</a:t>
            </a: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JS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92000" y="57150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Quien te tome de la mano, pero además toque tu corazón, te brindará amistad verdad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48320" y="457200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Casi nunca pensamos en lo que tenemos. Sólo en aquéllo que nos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181480"/>
            <a:ext cx="61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Palatino Linotype"/>
                <a:ea typeface="Times New Roman"/>
              </a:rPr>
              <a:t>No llores porque se ha terminado. Mejor sonríe porque te suced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356000" y="4719600"/>
            <a:ext cx="47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Palatino Linotype"/>
                <a:ea typeface="Times New Roman"/>
              </a:rPr>
              <a:t>Mientras más precisos pienses que son tus planes, más duro será el golpe que te de el 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508720" y="4827600"/>
            <a:ext cx="334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Palatino Linotype"/>
                <a:ea typeface="Times New Roman"/>
              </a:rPr>
              <a:t>Todo lo que sucede, sucede por alguna raz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352680" y="1752480"/>
            <a:ext cx="2514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Palatino Linotype"/>
                <a:ea typeface="Times New Roman"/>
              </a:rPr>
              <a:t>No te esfuerces tanto, porque las cosas mejores suceden cuando menos las espe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292560"/>
            <a:ext cx="8229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4876920"/>
            <a:ext cx="48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Tus mejores momentos no serán los más ruidosos, sino tus horas de quiet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76920" y="3645000"/>
            <a:ext cx="426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Una lección difícil de aprender será:</a:t>
            </a:r>
            <a:br>
              <a:rPr sz="2800"/>
            </a:br>
            <a:r>
              <a:rPr b="0" lang="en-GB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  Qué puente cruzar y cuál evit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1T22:45:57Z</dcterms:created>
  <dc:creator/>
  <dc:description/>
  <dc:language>en-US</dc:language>
  <cp:lastModifiedBy>Jaime Antonio</cp:lastModifiedBy>
  <dcterms:modified xsi:type="dcterms:W3CDTF">2005-08-09T16:04:35Z</dcterms:modified>
  <cp:revision>52</cp:revision>
  <dc:subject/>
  <dc:title>I's not from me!!!</dc:title>
</cp:coreProperties>
</file>